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4921-E392-4E4D-98C2-1578AA152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A1C9-2977-4CEA-ACB6-F010B31E9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9A22-12CB-43BE-B08B-85947E572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D585-FF55-4772-9530-520AC3324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5EB25-FFEF-4477-80C8-6E94D46C4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E4A6C-28EF-470E-A244-4B80F23CF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17285-5B7A-47BD-9B02-63CA6222A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716F2-9FCD-4EBD-842B-6CD2B1644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54F59-835D-4F0B-BB48-BC470F384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7BC85-DCE6-4EF1-A7CF-33A00339B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FFD62-E509-4DF7-9A79-40847FF65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C3CB-4EF2-444F-95D5-E8F229818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88507-583D-4E4A-9BA7-EE53CDA80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49906-3FBE-448A-A71A-022D9B1F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B6B9D-CD1C-4E26-BE66-F0DF67810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0949B-C3A0-4396-A33C-322A43E45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62ED8-0F84-4F0D-BD17-C3D825506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8D40A-4BDA-43E5-8A06-2953780E4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CB4CE-09A0-4C37-BF57-6845002B7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1D490-D5E3-48E5-8960-9742CDF7E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98164-3948-4206-860A-5746EA79E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03931-1692-4E6E-AE85-7B7C72B16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0710-50A6-45F9-BF0A-7E52B9F3C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4ABC6-7844-4DCE-8494-3A1E671F8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53342-A6FE-4A35-97D2-AC8C386A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49920-CB2C-4FDE-87BE-351BAE948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0A1F4-12B4-4E4F-BE90-971C22923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43130-CBCD-4E2B-AB0B-C72EE8777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BC0F4-CF09-4CF3-A2C4-2798F8195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A93C5-9EF6-4292-8783-B47D19A90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9DBD2-7CB9-4670-A5D2-689E61698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F820C-FB9D-41A9-A8EE-CDC5F4388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E63C2-F81F-4BA1-B9CB-251B67000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404F-45CF-4828-98DA-812654FD3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A334F-C120-4BE0-A6BD-26E396FB1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C71AB-0F1D-4D58-B425-B4B1B4A06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36F4F-6B00-4C7D-838F-E61ED7D86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A841C-CD74-4ACB-BFEF-1C479879A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9A88F-A56A-440F-9686-D39C5456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5D3B9-623F-4DBC-9858-5C10DB1E3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B2E6E-6820-4E2D-AD93-116BAB206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54A40-7EE9-4C4B-BFC1-D2C8EF7DD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A4E87-6169-4729-9E78-0CD28910A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F2300B-497E-4DA0-8715-28C97A5A9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3C0B-0D0E-413A-91A5-1CB38F7AB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30D94-1F5A-4857-A843-4DDC51C6D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36A030-1085-4E2A-BD4E-E2223B778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6F37C-75FF-45F7-8400-9B153C2B1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A1FBF-06CE-4C48-815B-12B806742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8CF8E-1602-46C3-A67B-CAB357D64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FAA04-62F6-4CA2-9F0E-4A12CCDD3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E0F2B4-75BB-41F7-A03E-89CA3F07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1D9719-B65A-40CB-872F-EEC930F78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5B5777-08FE-42BA-8410-797CEF370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322527-4F13-47B8-B37D-CFFCDF5AB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496B-C727-41E0-AE51-E35279841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723468-2FF3-44FD-B03E-2712A23B8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43DC-831C-4CD7-A1F1-8A748861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A2C5-076A-4A78-81BD-E90F9A99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A5AB-D2A4-4C55-96A7-C31E14AC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22285-CEB0-49C3-9680-2F23CFD192D3}" type="slidenum">
              <a:rPr b="0" lang="en-A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AA63E-2833-4D4E-9BD9-5D42553CC898}" type="slidenum">
              <a:rPr b="0" lang="en-A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CC14A-AE81-48BF-A3BA-42E54E7CD544}" type="slidenum">
              <a:rPr b="0" lang="en-A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D7123-824B-470F-B6E1-E6028114E748}" type="slidenum">
              <a:rPr b="0" lang="en-A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D616B-A177-4B7A-A767-97B1A1A9CB2D}" type="slidenum">
              <a:rPr b="0" lang="en-A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1"/>
          <a:stretch/>
        </p:blipFill>
        <p:spPr>
          <a:xfrm>
            <a:off x="682560" y="828720"/>
            <a:ext cx="7948800" cy="18842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1371600" y="3213000"/>
            <a:ext cx="640080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itle 1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7478640" cy="10796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395280" y="1341360"/>
            <a:ext cx="75405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rebuchet MS"/>
              </a:rPr>
              <a:t>How do you choose what you will teach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Trebuchet MS"/>
              </a:rPr>
              <a:t>- Textbook chapte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Trebuchet MS"/>
              </a:rPr>
              <a:t>- Special even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Trebuchet MS"/>
              </a:rPr>
              <a:t>- Student interes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Trebuchet MS"/>
              </a:rPr>
              <a:t>- Teacher interes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rebuchet MS"/>
              </a:rPr>
              <a:t>Understanding Backwards Design (UBD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rebuchet MS"/>
              </a:rPr>
              <a:t>Multi-disciplinary approach (cross KLA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rebuchet MS"/>
              </a:rPr>
              <a:t>Could you use program as Language promotion document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Title 1" descr=""/>
          <p:cNvPicPr/>
          <p:nvPr/>
        </p:nvPicPr>
        <p:blipFill>
          <a:blip r:embed="rId1"/>
          <a:stretch/>
        </p:blipFill>
        <p:spPr>
          <a:xfrm>
            <a:off x="212760" y="268200"/>
            <a:ext cx="7718400" cy="7923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456840" y="1197000"/>
            <a:ext cx="7467480" cy="52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rebuchet MS"/>
              </a:rPr>
              <a:t>Are the aims of the unit of work clear?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rebuchet MS"/>
              </a:rPr>
              <a:t>What will students be able to do in TL at end of UOW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rebuchet MS"/>
              </a:rPr>
              <a:t>Does it allow students to demonstrate progression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rebuchet MS"/>
              </a:rPr>
              <a:t>Are the topics/themes/tasks authentic and engaging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rebuchet MS"/>
              </a:rPr>
              <a:t>Does this UOW build on prior learning? Is the language learning cumulative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rebuchet MS"/>
              </a:rPr>
              <a:t>Does this UOW differentiate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rebuchet MS"/>
              </a:rPr>
              <a:t>Does this UOW enable students to achieve success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rebuchet MS"/>
              </a:rPr>
              <a:t>Does this UOW challenge my students? Should I raise the bar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Title 2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461360" cy="11509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457200" y="234936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rebuchet MS"/>
              </a:rPr>
              <a:t>What are the key elements of an effective Languages program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rebuchet MS"/>
              </a:rPr>
              <a:t>How can I enhance my current Stage 4/5 programs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5T23:09:59Z</dcterms:created>
  <dc:creator>Merryl</dc:creator>
  <dc:description/>
  <dc:language>en-US</dc:language>
  <cp:lastModifiedBy>Merryl</cp:lastModifiedBy>
  <dcterms:modified xsi:type="dcterms:W3CDTF">2013-04-04T05:48:32Z</dcterms:modified>
  <cp:revision>83</cp:revision>
  <dc:subject/>
  <dc:title>Indonesian- A Priority language</dc:title>
</cp:coreProperties>
</file>